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358-DD44-4B95-B3D1-BE367307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FC0-60CC-47E4-BF93-4E1A620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384-BCD2-46F4-B3DC-A007979A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956-2065-47BB-A069-D3D97E85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070D-342A-4F24-AF7B-D48DB38D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2997-8AEA-4E2C-9948-2F53E6AD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4125-270B-4672-B03A-B113366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F986-39B7-4816-97D3-5EF36E7E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A504-BA70-4344-8D09-D845CD1C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6DF9-94C3-44C1-9051-8B4C5303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34DF-3B0E-41D8-A50D-D6F037AB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DF7-7924-4D6D-9037-CA0D46DC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DD75-2592-4E57-8D3B-2A19322D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EDD3-83FB-4306-96AD-8454AD20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D751-53D9-41E9-AB76-57014BFB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4F98-C2EC-4964-9ED9-08B2AC7D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F686-E02F-483A-8F5E-F6939117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B22-10A3-4ED2-9956-83F53CBD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2D7-F5B5-499B-AE0F-6DEF1EFB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8CF-CA4C-4FF8-86C1-AAC0E42F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1AF-E38B-408C-BEF9-D96E0AA7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9DB-23DA-4DFB-91B5-C081CA74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FE9-78DD-4814-AE3B-5F9FAFA0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7C3-4665-4AAF-96C9-7CA5860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F086-DDB5-4E1C-8DAC-A0AC237065E3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H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HK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C847-D40D-4C78-AED7-C056F321F2B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70836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By: Calvin, Kitty, Kenne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14400"/>
            <a:ext cx="4716360" cy="6816600"/>
          </a:xfrm>
          <a:prstGeom prst="rect">
            <a:avLst/>
          </a:prstGeom>
          <a:ln w="0">
            <a:noFill/>
          </a:ln>
        </p:spPr>
      </p:pic>
      <p:pic>
        <p:nvPicPr>
          <p:cNvPr id="97" name="矩形 4" descr=""/>
          <p:cNvPicPr/>
          <p:nvPr/>
        </p:nvPicPr>
        <p:blipFill>
          <a:blip r:embed="rId2"/>
          <a:stretch/>
        </p:blipFill>
        <p:spPr>
          <a:xfrm>
            <a:off x="4498920" y="1603440"/>
            <a:ext cx="4816440" cy="1146240"/>
          </a:xfrm>
          <a:prstGeom prst="rect">
            <a:avLst/>
          </a:prstGeom>
          <a:ln w="0">
            <a:noFill/>
          </a:ln>
        </p:spPr>
      </p:pic>
      <p:sp>
        <p:nvSpPr>
          <p:cNvPr id="98" name="文字方塊 7"/>
          <p:cNvSpPr/>
          <p:nvPr/>
        </p:nvSpPr>
        <p:spPr>
          <a:xfrm>
            <a:off x="4427640" y="278136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Calibri"/>
                <a:ea typeface="宋体"/>
              </a:rPr>
              <a:t>第十二章，四十九頁，共兩頁，大約 </a:t>
            </a:r>
            <a:r>
              <a:rPr b="0" lang="en-US" sz="1800" spc="-1" strike="noStrike">
                <a:solidFill>
                  <a:srgbClr val="003366"/>
                </a:solidFill>
                <a:latin typeface="Calibri"/>
                <a:ea typeface="宋体"/>
              </a:rPr>
              <a:t>250</a:t>
            </a:r>
            <a:r>
              <a:rPr b="0" lang="zh-CN" sz="1800" spc="-1" strike="noStrike">
                <a:solidFill>
                  <a:srgbClr val="003366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3366"/>
                </a:solidFill>
                <a:latin typeface="Calibri"/>
                <a:ea typeface="宋体"/>
              </a:rPr>
              <a:t>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Calibri"/>
                <a:ea typeface="宋体"/>
              </a:rPr>
              <a:t>小王子探訪的第三個星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6156360" y="981000"/>
            <a:ext cx="1728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新細明體"/>
              </a:rPr>
              <a:t>32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01" name="文字方塊 6"/>
          <p:cNvSpPr/>
          <p:nvPr/>
        </p:nvSpPr>
        <p:spPr>
          <a:xfrm>
            <a:off x="2633760" y="1471680"/>
            <a:ext cx="70326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同樣是一個小小的星球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全身都是酒味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像是一個老人家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他有喝不完的酒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文字方塊 7"/>
          <p:cNvSpPr/>
          <p:nvPr/>
        </p:nvSpPr>
        <p:spPr>
          <a:xfrm>
            <a:off x="276120" y="1471680"/>
            <a:ext cx="235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我們的猜測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文字方塊 8"/>
          <p:cNvSpPr/>
          <p:nvPr/>
        </p:nvSpPr>
        <p:spPr>
          <a:xfrm>
            <a:off x="2633760" y="3448080"/>
            <a:ext cx="59706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Arial"/>
              </a:rPr>
              <a:t>他有一張紅紅的臉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Arial"/>
              </a:rPr>
              <a:t>身子矮矮的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Arial"/>
              </a:rPr>
              <a:t>有一套矮矮的桌子和椅子，放著三瓶酒，和一個酒杯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Arial"/>
              </a:rPr>
              <a:t>他旁有一箱酒（共有六支酒瓶）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文字方塊 10"/>
          <p:cNvSpPr/>
          <p:nvPr/>
        </p:nvSpPr>
        <p:spPr>
          <a:xfrm>
            <a:off x="247680" y="3448080"/>
            <a:ext cx="251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3366"/>
                </a:solidFill>
                <a:latin typeface="Calibri"/>
                <a:ea typeface="宋体"/>
              </a:rPr>
              <a:t>從書裏可以看到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矩形 11" descr=""/>
          <p:cNvPicPr/>
          <p:nvPr/>
        </p:nvPicPr>
        <p:blipFill>
          <a:blip r:embed="rId2"/>
          <a:stretch/>
        </p:blipFill>
        <p:spPr>
          <a:xfrm>
            <a:off x="3438360" y="152280"/>
            <a:ext cx="2273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性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對人生絕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矛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無所事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孤獨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有很多煩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進入全尺寸圖片"/>
          <p:cNvPicPr/>
          <p:nvPr/>
        </p:nvPicPr>
        <p:blipFill>
          <a:blip r:embed="rId1"/>
          <a:stretch/>
        </p:blipFill>
        <p:spPr>
          <a:xfrm>
            <a:off x="4500720" y="2881440"/>
            <a:ext cx="46432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矩形 3" descr=""/>
          <p:cNvPicPr/>
          <p:nvPr/>
        </p:nvPicPr>
        <p:blipFill>
          <a:blip r:embed="rId1"/>
          <a:stretch/>
        </p:blipFill>
        <p:spPr>
          <a:xfrm>
            <a:off x="1706400" y="60480"/>
            <a:ext cx="5700960" cy="181764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7" descr=""/>
          <p:cNvPicPr/>
          <p:nvPr/>
        </p:nvPicPr>
        <p:blipFill>
          <a:blip r:embed="rId2"/>
          <a:stretch/>
        </p:blipFill>
        <p:spPr>
          <a:xfrm>
            <a:off x="3949560" y="5059440"/>
            <a:ext cx="5469120" cy="124452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9" descr=""/>
          <p:cNvPicPr/>
          <p:nvPr/>
        </p:nvPicPr>
        <p:blipFill>
          <a:blip r:embed="rId3"/>
          <a:stretch/>
        </p:blipFill>
        <p:spPr>
          <a:xfrm>
            <a:off x="3219480" y="4224240"/>
            <a:ext cx="3900600" cy="93348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10" descr=""/>
          <p:cNvPicPr/>
          <p:nvPr/>
        </p:nvPicPr>
        <p:blipFill>
          <a:blip r:embed="rId4"/>
          <a:stretch/>
        </p:blipFill>
        <p:spPr>
          <a:xfrm>
            <a:off x="2060640" y="3602160"/>
            <a:ext cx="2779560" cy="641160"/>
          </a:xfrm>
          <a:prstGeom prst="rect">
            <a:avLst/>
          </a:prstGeom>
          <a:ln w="0">
            <a:noFill/>
          </a:ln>
        </p:spPr>
      </p:pic>
      <p:pic>
        <p:nvPicPr>
          <p:cNvPr id="113" name="矩形 13" descr=""/>
          <p:cNvPicPr/>
          <p:nvPr/>
        </p:nvPicPr>
        <p:blipFill>
          <a:blip r:embed="rId5"/>
          <a:stretch/>
        </p:blipFill>
        <p:spPr>
          <a:xfrm>
            <a:off x="1255680" y="2736720"/>
            <a:ext cx="1700280" cy="671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250920" y="1916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語言描寫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3366"/>
                </a:solidFill>
                <a:latin typeface="Arial"/>
              </a:rPr>
              <a:t>謝謝觀賞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4:00:56Z</dcterms:created>
  <dc:creator>a</dc:creator>
  <dc:description/>
  <dc:language>en-US</dc:language>
  <cp:lastModifiedBy>carollam</cp:lastModifiedBy>
  <dcterms:modified xsi:type="dcterms:W3CDTF">2011-05-26T04:42:44Z</dcterms:modified>
  <cp:revision>16</cp:revision>
  <dc:subject/>
  <dc:title>PowerPoint 簡報</dc:title>
</cp:coreProperties>
</file>